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3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F542-3388-46F8-A644-C5EE4E268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oncepts: Counting Objects, Counting Down, Sorting &amp; Grouping, Number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6C25-D9E6-4180-A202-9E050238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of the penguins and then click on the white box to enter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F788-7CEB-4E5F-8400-7BF409544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B045-6F68-4F4D-8D48-2CE5D3EEC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penguins that are alike in some way into groups – at least 2 groups but you can have more. The groups on this slide need to be different than the groups on slide #2. Then write the number sentence that goes with your groups. Remember to add “penguins” to the end of your number sent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3348-2CB7-4DEE-8744-361E31B40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and drag on the penguins head to move the penguin and their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E341-C086-43F0-94C2-225E1F04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pattern on the left-hand side and then find which color you should use in the chart. Click on the black border of the item you want to color – this will put a box around the item. Click on the little arrow to the right of the fill bucket and choose the correct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AAB0-1D13-4E75-9222-7980123A5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20C7-60F6-4A7A-81E7-BB191F92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C63E-8BE1-4E95-97C1-39D7735C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DA2C-7DA3-4177-8BE6-03953EA0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E68E-1F3F-4CA6-9AE2-8DEF4694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34D-3A14-46EA-8023-C224BCDC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F054-96A7-4493-AB3B-BD9A5140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20A7-7E85-43FA-92A0-34497F1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BCB-4157-465A-91C2-90BC0CE2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9AC-19CD-4D40-9E77-6797C9FF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140-B552-4710-955A-CE9C6DF5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98C-3015-49AA-AC42-9B5A52A1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CE13-D5FA-435D-B876-F8CB31F48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421F-97C9-46BD-88E3-AEA34BE839FA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17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" descr="C:\Users\Sedgwick\AppData\Local\Microsoft\Windows\Temporary Internet Files\Content.IE5\0Y357O2P\MCAN01977_0000[1].wmf"/>
          <p:cNvPicPr/>
          <p:nvPr/>
        </p:nvPicPr>
        <p:blipFill>
          <a:blip r:embed="rId2"/>
          <a:stretch/>
        </p:blipFill>
        <p:spPr>
          <a:xfrm>
            <a:off x="7620120" y="1219320"/>
            <a:ext cx="998280" cy="4429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1676160"/>
            <a:ext cx="8991720" cy="19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2f2f2"/>
                </a:solidFill>
                <a:latin typeface="Comic Sans MS"/>
              </a:rPr>
              <a:t>My Penguin Math Book</a:t>
            </a:r>
            <a:br>
              <a:rPr sz="5400"/>
            </a:br>
            <a:br>
              <a:rPr sz="1800"/>
            </a:br>
            <a:r>
              <a:rPr b="0" lang="en-US" sz="5400" spc="-1" strike="noStrike">
                <a:solidFill>
                  <a:srgbClr val="f2f2f2"/>
                </a:solidFill>
                <a:latin typeface="Comic Sans MS"/>
              </a:rPr>
              <a:t>By: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90720" y="4419720"/>
            <a:ext cx="678168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2f2f2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C:\Users\Sedgwick\AppData\Local\Microsoft\Windows\Temporary Internet Files\Content.IE5\ZAJ4KTMQ\MCj04346010000[1].wmf"/>
          <p:cNvPicPr/>
          <p:nvPr/>
        </p:nvPicPr>
        <p:blipFill>
          <a:blip r:embed="rId2"/>
          <a:stretch/>
        </p:blipFill>
        <p:spPr>
          <a:xfrm>
            <a:off x="2514600" y="1027080"/>
            <a:ext cx="1149480" cy="1563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Sedgwick\AppData\Local\Microsoft\Windows\Temporary Internet Files\Content.IE5\0Y357O2P\MCSO01895_0000[1].wmf"/>
          <p:cNvPicPr/>
          <p:nvPr/>
        </p:nvPicPr>
        <p:blipFill>
          <a:blip r:embed="rId3"/>
          <a:stretch/>
        </p:blipFill>
        <p:spPr>
          <a:xfrm>
            <a:off x="76320" y="917640"/>
            <a:ext cx="2590560" cy="43401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4"/>
          <p:cNvSpPr/>
          <p:nvPr/>
        </p:nvSpPr>
        <p:spPr>
          <a:xfrm>
            <a:off x="1523880" y="51814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 s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How many penguins do you see?</a:t>
            </a:r>
            <a:br>
              <a:rPr sz="3200"/>
            </a:b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Count them &amp; type the number in the box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5105520" y="520056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engui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7"/>
          <p:cNvSpPr/>
          <p:nvPr/>
        </p:nvSpPr>
        <p:spPr>
          <a:xfrm>
            <a:off x="3657600" y="5200560"/>
            <a:ext cx="1371600" cy="101592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C:\Users\Sedgwick\AppData\Local\Microsoft\Windows\Temporary Internet Files\Content.IE5\QJN1GO2H\MCAN00624_0000[1].wmf"/>
          <p:cNvPicPr/>
          <p:nvPr/>
        </p:nvPicPr>
        <p:blipFill>
          <a:blip r:embed="rId4"/>
          <a:stretch/>
        </p:blipFill>
        <p:spPr>
          <a:xfrm flipH="1">
            <a:off x="3733560" y="1219320"/>
            <a:ext cx="1003320" cy="1447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Sedgwick\AppData\Local\Microsoft\Windows\Temporary Internet Files\Content.IE5\QJN1GO2H\MCAN04119_0000[1].wmf"/>
          <p:cNvPicPr/>
          <p:nvPr/>
        </p:nvPicPr>
        <p:blipFill>
          <a:blip r:embed="rId5"/>
          <a:stretch/>
        </p:blipFill>
        <p:spPr>
          <a:xfrm>
            <a:off x="6095880" y="12193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Sedgwick\AppData\Local\Microsoft\Windows\Temporary Internet Files\Content.IE5\IEC5JMX2\MCj02408170000[1].wmf"/>
          <p:cNvPicPr/>
          <p:nvPr/>
        </p:nvPicPr>
        <p:blipFill>
          <a:blip r:embed="rId6"/>
          <a:stretch/>
        </p:blipFill>
        <p:spPr>
          <a:xfrm>
            <a:off x="7248600" y="1206360"/>
            <a:ext cx="1819080" cy="138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Users\Sedgwick\AppData\Local\Microsoft\Windows\Temporary Internet Files\Content.IE5\0Y357O2P\MCAN01968_0000[1].wmf"/>
          <p:cNvPicPr/>
          <p:nvPr/>
        </p:nvPicPr>
        <p:blipFill>
          <a:blip r:embed="rId7"/>
          <a:stretch/>
        </p:blipFill>
        <p:spPr>
          <a:xfrm>
            <a:off x="3124080" y="3200400"/>
            <a:ext cx="415620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C:\Users\Sedgwick\AppData\Local\Microsoft\Windows\Temporary Internet Files\Content.IE5\ZAJ4KTMQ\MCj01334890000[1].wmf"/>
          <p:cNvPicPr/>
          <p:nvPr/>
        </p:nvPicPr>
        <p:blipFill>
          <a:blip r:embed="rId8"/>
          <a:stretch/>
        </p:blipFill>
        <p:spPr>
          <a:xfrm>
            <a:off x="4800600" y="1479600"/>
            <a:ext cx="1192320" cy="1187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Sedgwick\AppData\Local\Microsoft\Windows\Temporary Internet Files\Content.IE5\ZAJ4KTMQ\MCAN02363_0000[1].wmf"/>
          <p:cNvPicPr/>
          <p:nvPr/>
        </p:nvPicPr>
        <p:blipFill>
          <a:blip r:embed="rId9"/>
          <a:stretch/>
        </p:blipFill>
        <p:spPr>
          <a:xfrm>
            <a:off x="7772400" y="2919240"/>
            <a:ext cx="1279440" cy="23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and add similar penguins, then type a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1143000" y="5410080"/>
            <a:ext cx="7924680" cy="8305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315200" y="1447920"/>
            <a:ext cx="112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990720" y="1828800"/>
            <a:ext cx="1366560" cy="1096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1143000" y="68580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603360"/>
            <a:ext cx="555480" cy="1109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Group the penguins in a different way, then type another number sentence!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2" name="Picture 20" descr="C:\Users\Sedgwick\AppData\Local\Microsoft\Windows\Temporary Internet Files\Content.IE5\IEC5JMX2\MCAN01558_0000[1].wmf"/>
          <p:cNvPicPr/>
          <p:nvPr/>
        </p:nvPicPr>
        <p:blipFill>
          <a:blip r:embed="rId2"/>
          <a:stretch/>
        </p:blipFill>
        <p:spPr>
          <a:xfrm>
            <a:off x="2971800" y="1600200"/>
            <a:ext cx="896760" cy="1096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1" descr="C:\Users\Sedgwick\AppData\Local\Microsoft\Windows\Temporary Internet Files\Content.IE5\QJN1GO2H\MCAN01853_0000[1].wmf"/>
          <p:cNvPicPr/>
          <p:nvPr/>
        </p:nvPicPr>
        <p:blipFill>
          <a:blip r:embed="rId3"/>
          <a:stretch/>
        </p:blipFill>
        <p:spPr>
          <a:xfrm>
            <a:off x="3733920" y="1143000"/>
            <a:ext cx="1022400" cy="1096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C:\Users\Sedgwick\AppData\Local\Microsoft\Windows\Temporary Internet Files\Content.IE5\ZAJ4KTMQ\MCAN02494_0000[1].wmf"/>
          <p:cNvPicPr/>
          <p:nvPr/>
        </p:nvPicPr>
        <p:blipFill>
          <a:blip r:embed="rId4"/>
          <a:stretch/>
        </p:blipFill>
        <p:spPr>
          <a:xfrm>
            <a:off x="7467480" y="1066680"/>
            <a:ext cx="1121040" cy="1096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C:\Users\Sedgwick\AppData\Local\Microsoft\Windows\Temporary Internet Files\Content.IE5\IEC5JMX2\MCj00842420000[1].wmf"/>
          <p:cNvPicPr/>
          <p:nvPr/>
        </p:nvPicPr>
        <p:blipFill>
          <a:blip r:embed="rId5"/>
          <a:stretch/>
        </p:blipFill>
        <p:spPr>
          <a:xfrm>
            <a:off x="6553080" y="1265400"/>
            <a:ext cx="544680" cy="1096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2" descr="C:\Users\Sedgwick\AppData\Local\Microsoft\Windows\Temporary Internet Files\Content.IE5\IEC5JMX2\MCAN02495_0000[1].wmf"/>
          <p:cNvPicPr/>
          <p:nvPr/>
        </p:nvPicPr>
        <p:blipFill>
          <a:blip r:embed="rId6"/>
          <a:stretch/>
        </p:blipFill>
        <p:spPr>
          <a:xfrm>
            <a:off x="838080" y="1676520"/>
            <a:ext cx="1366920" cy="1096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3" descr="C:\Users\Sedgwick\AppData\Local\Microsoft\Windows\Temporary Internet Files\Content.IE5\QJN1GO2H\MCAN00624_0000[1].wmf"/>
          <p:cNvPicPr/>
          <p:nvPr/>
        </p:nvPicPr>
        <p:blipFill>
          <a:blip r:embed="rId7"/>
          <a:stretch/>
        </p:blipFill>
        <p:spPr>
          <a:xfrm>
            <a:off x="4724280" y="1752480"/>
            <a:ext cx="760680" cy="109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C:\Users\Sedgwick\AppData\Local\Microsoft\Windows\Temporary Internet Files\Content.IE5\QJN1GO2H\MCAN00624_0000[1].wmf"/>
          <p:cNvPicPr/>
          <p:nvPr/>
        </p:nvPicPr>
        <p:blipFill>
          <a:blip r:embed="rId8"/>
          <a:stretch/>
        </p:blipFill>
        <p:spPr>
          <a:xfrm flipH="1">
            <a:off x="762120" y="609480"/>
            <a:ext cx="760320" cy="1096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3" descr="C:\Users\Sedgwick\AppData\Local\Microsoft\Windows\Temporary Internet Files\Content.IE5\QJN1GO2H\MCAN00624_0000[1].wmf"/>
          <p:cNvPicPr/>
          <p:nvPr/>
        </p:nvPicPr>
        <p:blipFill>
          <a:blip r:embed="rId9"/>
          <a:stretch/>
        </p:blipFill>
        <p:spPr>
          <a:xfrm>
            <a:off x="2127240" y="121284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5" descr="C:\Users\Sedgwick\AppData\Local\Microsoft\Windows\Temporary Internet Files\Content.IE5\IEC5JMX2\MCj00842420000[1].wmf"/>
          <p:cNvPicPr/>
          <p:nvPr/>
        </p:nvPicPr>
        <p:blipFill>
          <a:blip r:embed="rId10"/>
          <a:stretch/>
        </p:blipFill>
        <p:spPr>
          <a:xfrm>
            <a:off x="8375760" y="1596960"/>
            <a:ext cx="555480" cy="110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C:\Users\Sedgwick\AppData\Local\Microsoft\Windows\Temporary Internet Files\Content.IE5\IEC5JMX2\MCAN01558_0000[1].wmf"/>
          <p:cNvPicPr/>
          <p:nvPr/>
        </p:nvPicPr>
        <p:blipFill>
          <a:blip r:embed="rId11"/>
          <a:stretch/>
        </p:blipFill>
        <p:spPr>
          <a:xfrm>
            <a:off x="5407200" y="1139760"/>
            <a:ext cx="907920" cy="1103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8"/>
          <p:cNvSpPr/>
          <p:nvPr/>
        </p:nvSpPr>
        <p:spPr>
          <a:xfrm>
            <a:off x="1143000" y="5570640"/>
            <a:ext cx="7924680" cy="8301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Put the penguins in order by their number from LARGEST number to smallest numb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164" name="Group 34"/>
          <p:cNvGrpSpPr/>
          <p:nvPr/>
        </p:nvGrpSpPr>
        <p:grpSpPr>
          <a:xfrm>
            <a:off x="914400" y="3200400"/>
            <a:ext cx="1386000" cy="1828800"/>
            <a:chOff x="914400" y="3200400"/>
            <a:chExt cx="1386000" cy="1828800"/>
          </a:xfrm>
        </p:grpSpPr>
        <p:pic>
          <p:nvPicPr>
            <p:cNvPr id="165" name="Picture 2" descr="C:\Users\Sedgwick\AppData\Local\Microsoft\Windows\Temporary Internet Files\Content.IE5\IEC5JMX2\MCj03664220000[1].wmf"/>
            <p:cNvPicPr/>
            <p:nvPr/>
          </p:nvPicPr>
          <p:blipFill>
            <a:blip r:embed="rId2"/>
            <a:stretch/>
          </p:blipFill>
          <p:spPr>
            <a:xfrm>
              <a:off x="914400" y="32004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Box 9"/>
            <p:cNvSpPr/>
            <p:nvPr/>
          </p:nvSpPr>
          <p:spPr>
            <a:xfrm>
              <a:off x="1295280" y="38862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5"/>
          <p:cNvGrpSpPr/>
          <p:nvPr/>
        </p:nvGrpSpPr>
        <p:grpSpPr>
          <a:xfrm>
            <a:off x="228600" y="4876920"/>
            <a:ext cx="1386000" cy="1828800"/>
            <a:chOff x="228600" y="4876920"/>
            <a:chExt cx="1386000" cy="1828800"/>
          </a:xfrm>
        </p:grpSpPr>
        <p:pic>
          <p:nvPicPr>
            <p:cNvPr id="168" name="Picture 2" descr="C:\Users\Sedgwick\AppData\Local\Microsoft\Windows\Temporary Internet Files\Content.IE5\IEC5JMX2\MCj03664220000[1].wmf"/>
            <p:cNvPicPr/>
            <p:nvPr/>
          </p:nvPicPr>
          <p:blipFill>
            <a:blip r:embed="rId3"/>
            <a:stretch/>
          </p:blipFill>
          <p:spPr>
            <a:xfrm>
              <a:off x="228600" y="48769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TextBox 16"/>
            <p:cNvSpPr/>
            <p:nvPr/>
          </p:nvSpPr>
          <p:spPr>
            <a:xfrm>
              <a:off x="533160" y="563904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5486400" y="3048120"/>
            <a:ext cx="1386000" cy="1828800"/>
            <a:chOff x="5486400" y="3048120"/>
            <a:chExt cx="1386000" cy="1828800"/>
          </a:xfrm>
        </p:grpSpPr>
        <p:pic>
          <p:nvPicPr>
            <p:cNvPr id="171" name="Picture 2" descr="C:\Users\Sedgwick\AppData\Local\Microsoft\Windows\Temporary Internet Files\Content.IE5\IEC5JMX2\MCj03664220000[1].wmf"/>
            <p:cNvPicPr/>
            <p:nvPr/>
          </p:nvPicPr>
          <p:blipFill>
            <a:blip r:embed="rId4"/>
            <a:stretch/>
          </p:blipFill>
          <p:spPr>
            <a:xfrm>
              <a:off x="5486400" y="304812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Box 18"/>
            <p:cNvSpPr/>
            <p:nvPr/>
          </p:nvSpPr>
          <p:spPr>
            <a:xfrm>
              <a:off x="586728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41"/>
          <p:cNvGrpSpPr/>
          <p:nvPr/>
        </p:nvGrpSpPr>
        <p:grpSpPr>
          <a:xfrm>
            <a:off x="7620120" y="4800600"/>
            <a:ext cx="1385640" cy="1828800"/>
            <a:chOff x="7620120" y="4800600"/>
            <a:chExt cx="1385640" cy="1828800"/>
          </a:xfrm>
        </p:grpSpPr>
        <p:pic>
          <p:nvPicPr>
            <p:cNvPr id="174" name="Picture 2" descr="C:\Users\Sedgwick\AppData\Local\Microsoft\Windows\Temporary Internet Files\Content.IE5\IEC5JMX2\MCj03664220000[1].wmf"/>
            <p:cNvPicPr/>
            <p:nvPr/>
          </p:nvPicPr>
          <p:blipFill>
            <a:blip r:embed="rId5"/>
            <a:stretch/>
          </p:blipFill>
          <p:spPr>
            <a:xfrm>
              <a:off x="7620120" y="480060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Box 20"/>
            <p:cNvSpPr/>
            <p:nvPr/>
          </p:nvSpPr>
          <p:spPr>
            <a:xfrm>
              <a:off x="8001000" y="5486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40"/>
          <p:cNvGrpSpPr/>
          <p:nvPr/>
        </p:nvGrpSpPr>
        <p:grpSpPr>
          <a:xfrm>
            <a:off x="2514600" y="3124080"/>
            <a:ext cx="1386000" cy="1828800"/>
            <a:chOff x="2514600" y="3124080"/>
            <a:chExt cx="1386000" cy="1828800"/>
          </a:xfrm>
        </p:grpSpPr>
        <p:pic>
          <p:nvPicPr>
            <p:cNvPr id="177" name="Picture 2" descr="C:\Users\Sedgwick\AppData\Local\Microsoft\Windows\Temporary Internet Files\Content.IE5\IEC5JMX2\MCj03664220000[1].wmf"/>
            <p:cNvPicPr/>
            <p:nvPr/>
          </p:nvPicPr>
          <p:blipFill>
            <a:blip r:embed="rId6"/>
            <a:stretch/>
          </p:blipFill>
          <p:spPr>
            <a:xfrm>
              <a:off x="2514600" y="312408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TextBox 22"/>
            <p:cNvSpPr/>
            <p:nvPr/>
          </p:nvSpPr>
          <p:spPr>
            <a:xfrm>
              <a:off x="2895480" y="38098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9"/>
          <p:cNvGrpSpPr/>
          <p:nvPr/>
        </p:nvGrpSpPr>
        <p:grpSpPr>
          <a:xfrm>
            <a:off x="3200400" y="4800600"/>
            <a:ext cx="1386000" cy="1828800"/>
            <a:chOff x="3200400" y="4800600"/>
            <a:chExt cx="1386000" cy="1828800"/>
          </a:xfrm>
        </p:grpSpPr>
        <p:pic>
          <p:nvPicPr>
            <p:cNvPr id="180" name="Picture 2" descr="C:\Users\Sedgwick\AppData\Local\Microsoft\Windows\Temporary Internet Files\Content.IE5\IEC5JMX2\MCj03664220000[1].wmf"/>
            <p:cNvPicPr/>
            <p:nvPr/>
          </p:nvPicPr>
          <p:blipFill>
            <a:blip r:embed="rId7"/>
            <a:stretch/>
          </p:blipFill>
          <p:spPr>
            <a:xfrm>
              <a:off x="32004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TextBox 24"/>
            <p:cNvSpPr/>
            <p:nvPr/>
          </p:nvSpPr>
          <p:spPr>
            <a:xfrm>
              <a:off x="3504960" y="54864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8"/>
          <p:cNvGrpSpPr/>
          <p:nvPr/>
        </p:nvGrpSpPr>
        <p:grpSpPr>
          <a:xfrm>
            <a:off x="6934320" y="3048120"/>
            <a:ext cx="1385640" cy="1828800"/>
            <a:chOff x="6934320" y="3048120"/>
            <a:chExt cx="1385640" cy="1828800"/>
          </a:xfrm>
        </p:grpSpPr>
        <p:pic>
          <p:nvPicPr>
            <p:cNvPr id="183" name="Picture 2" descr="C:\Users\Sedgwick\AppData\Local\Microsoft\Windows\Temporary Internet Files\Content.IE5\IEC5JMX2\MCj03664220000[1].wmf"/>
            <p:cNvPicPr/>
            <p:nvPr/>
          </p:nvPicPr>
          <p:blipFill>
            <a:blip r:embed="rId8"/>
            <a:stretch/>
          </p:blipFill>
          <p:spPr>
            <a:xfrm>
              <a:off x="6934320" y="304812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Box 26"/>
            <p:cNvSpPr/>
            <p:nvPr/>
          </p:nvSpPr>
          <p:spPr>
            <a:xfrm>
              <a:off x="7315200" y="373392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37"/>
          <p:cNvGrpSpPr/>
          <p:nvPr/>
        </p:nvGrpSpPr>
        <p:grpSpPr>
          <a:xfrm>
            <a:off x="4648320" y="4724280"/>
            <a:ext cx="1385640" cy="1828800"/>
            <a:chOff x="4648320" y="4724280"/>
            <a:chExt cx="1385640" cy="1828800"/>
          </a:xfrm>
        </p:grpSpPr>
        <p:pic>
          <p:nvPicPr>
            <p:cNvPr id="186" name="Picture 2" descr="C:\Users\Sedgwick\AppData\Local\Microsoft\Windows\Temporary Internet Files\Content.IE5\IEC5JMX2\MCj03664220000[1].wmf"/>
            <p:cNvPicPr/>
            <p:nvPr/>
          </p:nvPicPr>
          <p:blipFill>
            <a:blip r:embed="rId9"/>
            <a:stretch/>
          </p:blipFill>
          <p:spPr>
            <a:xfrm>
              <a:off x="4648320" y="4724280"/>
              <a:ext cx="1385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8"/>
            <p:cNvSpPr/>
            <p:nvPr/>
          </p:nvSpPr>
          <p:spPr>
            <a:xfrm>
              <a:off x="5029200" y="541008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33"/>
          <p:cNvGrpSpPr/>
          <p:nvPr/>
        </p:nvGrpSpPr>
        <p:grpSpPr>
          <a:xfrm>
            <a:off x="1752480" y="4800600"/>
            <a:ext cx="1386000" cy="1953360"/>
            <a:chOff x="1752480" y="4800600"/>
            <a:chExt cx="1386000" cy="1953360"/>
          </a:xfrm>
        </p:grpSpPr>
        <p:pic>
          <p:nvPicPr>
            <p:cNvPr id="189" name="Picture 2" descr="C:\Users\Sedgwick\AppData\Local\Microsoft\Windows\Temporary Internet Files\Content.IE5\IEC5JMX2\MCj03664220000[1].wmf"/>
            <p:cNvPicPr/>
            <p:nvPr/>
          </p:nvPicPr>
          <p:blipFill>
            <a:blip r:embed="rId10"/>
            <a:stretch/>
          </p:blipFill>
          <p:spPr>
            <a:xfrm>
              <a:off x="175248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2"/>
            <p:cNvSpPr/>
            <p:nvPr/>
          </p:nvSpPr>
          <p:spPr>
            <a:xfrm>
              <a:off x="2133360" y="5562720"/>
              <a:ext cx="68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6"/>
          <p:cNvGrpSpPr/>
          <p:nvPr/>
        </p:nvGrpSpPr>
        <p:grpSpPr>
          <a:xfrm>
            <a:off x="6172200" y="4800600"/>
            <a:ext cx="1386000" cy="1828800"/>
            <a:chOff x="6172200" y="4800600"/>
            <a:chExt cx="1386000" cy="1828800"/>
          </a:xfrm>
        </p:grpSpPr>
        <p:pic>
          <p:nvPicPr>
            <p:cNvPr id="192" name="Picture 2" descr="C:\Users\Sedgwick\AppData\Local\Microsoft\Windows\Temporary Internet Files\Content.IE5\IEC5JMX2\MCj03664220000[1].wmf"/>
            <p:cNvPicPr/>
            <p:nvPr/>
          </p:nvPicPr>
          <p:blipFill>
            <a:blip r:embed="rId11"/>
            <a:stretch/>
          </p:blipFill>
          <p:spPr>
            <a:xfrm>
              <a:off x="6172200" y="4800600"/>
              <a:ext cx="13860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30"/>
            <p:cNvSpPr/>
            <p:nvPr/>
          </p:nvSpPr>
          <p:spPr>
            <a:xfrm>
              <a:off x="6553080" y="55260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32"/>
          <p:cNvGrpSpPr/>
          <p:nvPr/>
        </p:nvGrpSpPr>
        <p:grpSpPr>
          <a:xfrm>
            <a:off x="4145040" y="-121680"/>
            <a:ext cx="4776480" cy="6557400"/>
            <a:chOff x="4145040" y="-121680"/>
            <a:chExt cx="4776480" cy="6557400"/>
          </a:xfrm>
        </p:grpSpPr>
        <p:sp>
          <p:nvSpPr>
            <p:cNvPr id="195" name="Oval 6"/>
            <p:cNvSpPr/>
            <p:nvPr/>
          </p:nvSpPr>
          <p:spPr>
            <a:xfrm>
              <a:off x="4741560" y="1685880"/>
              <a:ext cx="3785040" cy="33814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hord 12"/>
            <p:cNvSpPr/>
            <p:nvPr/>
          </p:nvSpPr>
          <p:spPr>
            <a:xfrm rot="6229200">
              <a:off x="5147280" y="-388080"/>
              <a:ext cx="2771640" cy="42372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"/>
            <p:cNvSpPr/>
            <p:nvPr/>
          </p:nvSpPr>
          <p:spPr>
            <a:xfrm>
              <a:off x="5225760" y="2089080"/>
              <a:ext cx="2816280" cy="2817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Explosion 2 13"/>
            <p:cNvSpPr/>
            <p:nvPr/>
          </p:nvSpPr>
          <p:spPr>
            <a:xfrm>
              <a:off x="4822560" y="76320"/>
              <a:ext cx="1208160" cy="8856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ounded Rectangle 10"/>
            <p:cNvSpPr/>
            <p:nvPr/>
          </p:nvSpPr>
          <p:spPr>
            <a:xfrm>
              <a:off x="4662000" y="1927080"/>
              <a:ext cx="4024440" cy="966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7"/>
            <p:cNvSpPr/>
            <p:nvPr/>
          </p:nvSpPr>
          <p:spPr>
            <a:xfrm>
              <a:off x="538632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art 4"/>
            <p:cNvSpPr/>
            <p:nvPr/>
          </p:nvSpPr>
          <p:spPr>
            <a:xfrm>
              <a:off x="6110280" y="3537000"/>
              <a:ext cx="1047600" cy="9666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8"/>
            <p:cNvSpPr/>
            <p:nvPr/>
          </p:nvSpPr>
          <p:spPr>
            <a:xfrm>
              <a:off x="7399440" y="3618000"/>
              <a:ext cx="482400" cy="482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"/>
            <p:cNvSpPr/>
            <p:nvPr/>
          </p:nvSpPr>
          <p:spPr>
            <a:xfrm>
              <a:off x="6916680" y="3135240"/>
              <a:ext cx="24120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"/>
            <p:cNvSpPr/>
            <p:nvPr/>
          </p:nvSpPr>
          <p:spPr>
            <a:xfrm>
              <a:off x="6110280" y="3135240"/>
              <a:ext cx="242640" cy="241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ounded Rectangle 15"/>
            <p:cNvSpPr/>
            <p:nvPr/>
          </p:nvSpPr>
          <p:spPr>
            <a:xfrm>
              <a:off x="5466960" y="4745160"/>
              <a:ext cx="2333880" cy="482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lowchart: Punched Tape 16"/>
            <p:cNvSpPr/>
            <p:nvPr/>
          </p:nvSpPr>
          <p:spPr>
            <a:xfrm rot="16200000">
              <a:off x="5325840" y="5189400"/>
              <a:ext cx="1690560" cy="80172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1"/>
          <p:cNvGrpSpPr/>
          <p:nvPr/>
        </p:nvGrpSpPr>
        <p:grpSpPr>
          <a:xfrm>
            <a:off x="-100800" y="534600"/>
            <a:ext cx="1789560" cy="2455920"/>
            <a:chOff x="-100800" y="534600"/>
            <a:chExt cx="1789560" cy="2455920"/>
          </a:xfrm>
        </p:grpSpPr>
        <p:sp>
          <p:nvSpPr>
            <p:cNvPr id="208" name="Oval 19"/>
            <p:cNvSpPr/>
            <p:nvPr/>
          </p:nvSpPr>
          <p:spPr>
            <a:xfrm>
              <a:off x="122040" y="1212840"/>
              <a:ext cx="1417680" cy="12654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Chord 20"/>
            <p:cNvSpPr/>
            <p:nvPr/>
          </p:nvSpPr>
          <p:spPr>
            <a:xfrm rot="6229200">
              <a:off x="274680" y="434160"/>
              <a:ext cx="1038240" cy="158760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"/>
            <p:cNvSpPr/>
            <p:nvPr/>
          </p:nvSpPr>
          <p:spPr>
            <a:xfrm>
              <a:off x="303120" y="1363680"/>
              <a:ext cx="1055880" cy="10540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Explosion 2 22"/>
            <p:cNvSpPr/>
            <p:nvPr/>
          </p:nvSpPr>
          <p:spPr>
            <a:xfrm>
              <a:off x="152280" y="609480"/>
              <a:ext cx="452520" cy="33156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ounded Rectangle 23"/>
            <p:cNvSpPr/>
            <p:nvPr/>
          </p:nvSpPr>
          <p:spPr>
            <a:xfrm>
              <a:off x="91800" y="1303200"/>
              <a:ext cx="1508400" cy="361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4"/>
            <p:cNvSpPr/>
            <p:nvPr/>
          </p:nvSpPr>
          <p:spPr>
            <a:xfrm>
              <a:off x="3636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Heart 25"/>
            <p:cNvSpPr/>
            <p:nvPr/>
          </p:nvSpPr>
          <p:spPr>
            <a:xfrm>
              <a:off x="635040" y="1905120"/>
              <a:ext cx="392040" cy="361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6"/>
            <p:cNvSpPr/>
            <p:nvPr/>
          </p:nvSpPr>
          <p:spPr>
            <a:xfrm>
              <a:off x="1117800" y="1935000"/>
              <a:ext cx="180720" cy="180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27"/>
            <p:cNvSpPr/>
            <p:nvPr/>
          </p:nvSpPr>
          <p:spPr>
            <a:xfrm>
              <a:off x="93672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28"/>
            <p:cNvSpPr/>
            <p:nvPr/>
          </p:nvSpPr>
          <p:spPr>
            <a:xfrm>
              <a:off x="635040" y="1755720"/>
              <a:ext cx="90360" cy="8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ounded Rectangle 29"/>
            <p:cNvSpPr/>
            <p:nvPr/>
          </p:nvSpPr>
          <p:spPr>
            <a:xfrm>
              <a:off x="393480" y="2357640"/>
              <a:ext cx="874800" cy="180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lowchart: Punched Tape 30"/>
            <p:cNvSpPr/>
            <p:nvPr/>
          </p:nvSpPr>
          <p:spPr>
            <a:xfrm rot="16200000">
              <a:off x="341280" y="2523960"/>
              <a:ext cx="633240" cy="299880"/>
            </a:xfrm>
            <a:prstGeom prst="flowChartPunchedTap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16"/>
          <p:cNvSpPr/>
          <p:nvPr/>
        </p:nvSpPr>
        <p:spPr>
          <a:xfrm>
            <a:off x="1371600" y="0"/>
            <a:ext cx="3200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Color B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Comic Sans MS"/>
              </a:rPr>
              <a:t>Nu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4"/>
          <p:cNvSpPr/>
          <p:nvPr/>
        </p:nvSpPr>
        <p:spPr>
          <a:xfrm>
            <a:off x="762120" y="23446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762120" y="1371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36"/>
          <p:cNvSpPr/>
          <p:nvPr/>
        </p:nvSpPr>
        <p:spPr>
          <a:xfrm>
            <a:off x="228600" y="685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7"/>
          <p:cNvSpPr/>
          <p:nvPr/>
        </p:nvSpPr>
        <p:spPr>
          <a:xfrm>
            <a:off x="304920" y="190512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8"/>
          <p:cNvSpPr/>
          <p:nvPr/>
        </p:nvSpPr>
        <p:spPr>
          <a:xfrm>
            <a:off x="10666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9"/>
          <p:cNvSpPr/>
          <p:nvPr/>
        </p:nvSpPr>
        <p:spPr>
          <a:xfrm>
            <a:off x="685800" y="19810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0"/>
          <p:cNvSpPr/>
          <p:nvPr/>
        </p:nvSpPr>
        <p:spPr>
          <a:xfrm>
            <a:off x="1295280" y="175248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4"/>
          <p:cNvSpPr/>
          <p:nvPr/>
        </p:nvSpPr>
        <p:spPr>
          <a:xfrm>
            <a:off x="76320" y="17524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5"/>
          <p:cNvSpPr/>
          <p:nvPr/>
        </p:nvSpPr>
        <p:spPr>
          <a:xfrm>
            <a:off x="685800" y="9144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56"/>
          <p:cNvSpPr/>
          <p:nvPr/>
        </p:nvSpPr>
        <p:spPr>
          <a:xfrm>
            <a:off x="533520" y="243828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7"/>
          <p:cNvSpPr/>
          <p:nvPr/>
        </p:nvSpPr>
        <p:spPr>
          <a:xfrm>
            <a:off x="1066680" y="2590920"/>
            <a:ext cx="23623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Click on the black border of the item you want to color and then click on the fill bucket and choose the col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9:26:36Z</dcterms:created>
  <dc:creator>Vicky Sedgwick</dc:creator>
  <dc:description>Based on Kevin M. Jarrett's Pumpkin Math 
Math Concepts: Counting Objects, Counting Down, Sorting &amp; Grouping, Number Sentences </dc:description>
  <cp:keywords>winterwonderland penguin math 1st</cp:keywords>
  <dc:language>en-US</dc:language>
  <cp:lastModifiedBy>Lemacks, Tabatha</cp:lastModifiedBy>
  <dcterms:modified xsi:type="dcterms:W3CDTF">2011-02-18T14:36:42Z</dcterms:modified>
  <cp:revision>47</cp:revision>
  <dc:subject>Math</dc:subject>
  <dc:title>Penguin Math Book 1st Grade</dc:title>
</cp:coreProperties>
</file>